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6C158-9C4E-41E8-BF32-14C5602A0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9DD92-D484-4CF6-BE38-CFE666DBE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BB918-8B25-4561-9D92-4D71310E5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6C820-4414-4B35-91F8-F630BD768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28AEF-B379-47FF-88E1-5CEC9179F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DCA50-0892-4250-AD5E-C460BAF4E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B16C5-793F-4AC0-8783-053E32DDD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14666-2375-4ED2-80C5-E8EF6A7F8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97975-544B-483F-8A0D-D7B8BAC9A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D0946-BE60-4FB8-9764-97B032744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38897-89B7-4586-947D-9B10D993D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41A3F-9A4B-4802-B0D0-5877274F8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F1A96-2D2D-4C1B-82DD-7D79BA1F6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B1F39-1557-4D33-890E-A466730BA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BCF5B-B62B-4623-9295-DE3817112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2A45C-4139-4F89-91DA-DC4D34D48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6679D-7560-41B8-B7AF-2F9A69A2BE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5CA41-9308-4DE0-BAFE-80BBCF5E6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AFDED-53C5-4A15-857F-1E322520D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EA837-E19F-4394-AA17-DB5AF77C7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A2E39-2B4E-4F13-97DE-70E93E7A3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66697-E5F2-4637-88CF-C98C3B1BA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EDAF8-A671-4099-9F1C-BA9DD3E83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9A92A-E887-4F81-83A5-FCC0BBC39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B123-429E-4206-98CF-A099B0CF5A0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D49C-378F-400F-ABD2-DF09D61D39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an’t Judge a Powder</a:t>
            </a:r>
            <a:br>
              <a:rPr sz="4800"/>
            </a:br>
            <a:r>
              <a:rPr b="1" lang="en-US" sz="4800" spc="-1" strike="noStrike">
                <a:solidFill>
                  <a:srgbClr val="330066"/>
                </a:solidFill>
                <a:latin typeface="Arial"/>
              </a:rPr>
              <a:t>(B)</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in Wozniewski</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woz@iun.ed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servations</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should do tests on the reagents they are given as well as the powder.</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do not know for sure if the liquid you are attempting to dissolved the solid in does or does not conduct electricity, you can not say for sure what the solid did</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do not know what the temperature of the liquid was before you start dissolving, you can not know by how much the temperature chang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servation &amp; Inference</a:t>
            </a:r>
            <a:endParaRPr b="1" lang="en-US" sz="3900" spc="-1" strike="noStrike">
              <a:solidFill>
                <a:srgbClr val="330066"/>
              </a:solidFill>
              <a:latin typeface="Arial"/>
            </a:endParaRPr>
          </a:p>
        </p:txBody>
      </p:sp>
      <p:sp>
        <p:nvSpPr>
          <p:cNvPr id="171" name="PlaceHolder 2"/>
          <p:cNvSpPr>
            <a:spLocks noGrp="1"/>
          </p:cNvSpPr>
          <p:nvPr>
            <p:ph/>
          </p:nvPr>
        </p:nvSpPr>
        <p:spPr>
          <a:xfrm>
            <a:off x="456840" y="1295280"/>
            <a:ext cx="8534520" cy="556272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student attempts to dissolve the .1g of the powder in 1 ml of water and the temperature goes down from 22.1</a:t>
            </a:r>
            <a:r>
              <a:rPr b="0" lang="en-US" sz="3000" spc="-1" strike="noStrike">
                <a:solidFill>
                  <a:srgbClr val="000000"/>
                </a:solidFill>
                <a:latin typeface="Symbol"/>
                <a:ea typeface="Symbol"/>
              </a:rPr>
              <a:t></a:t>
            </a:r>
            <a:r>
              <a:rPr b="0" lang="en-US" sz="3000" spc="-1" strike="noStrike">
                <a:solidFill>
                  <a:srgbClr val="000000"/>
                </a:solidFill>
                <a:latin typeface="Arial"/>
              </a:rPr>
              <a:t>C to 20.9</a:t>
            </a:r>
            <a:r>
              <a:rPr b="0" lang="en-US" sz="3000" spc="-1" strike="noStrike">
                <a:solidFill>
                  <a:srgbClr val="000000"/>
                </a:solidFill>
                <a:latin typeface="Symbol"/>
                <a:ea typeface="Symbol"/>
              </a:rPr>
              <a:t></a:t>
            </a:r>
            <a:r>
              <a:rPr b="0" lang="en-US" sz="3000" spc="-1" strike="noStrike">
                <a:solidFill>
                  <a:srgbClr val="000000"/>
                </a:solidFill>
                <a:latin typeface="Arial"/>
              </a:rPr>
              <a:t>C, that is an observ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instead the student writes down that dissolving the powder is an endothermic process, that is an infere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would use the first observation to answer the question of whether or not the dissolving is exothermic or endothermi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you would get less points for answer 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servations</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51386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questions the event supervisor is likely to ask can be divided into two main categori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Standard Questions”</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at color is the powder?</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s it a powder or a crystal or a granule</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tc</a:t>
            </a: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owder specific questions”</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ou can not ask if dissolving the powder in water is exothermic if the powder is insoluble in water.</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tc.</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Prepare Students</a:t>
            </a:r>
            <a:endParaRPr b="1" lang="en-US" sz="3900" spc="-1" strike="noStrike">
              <a:solidFill>
                <a:srgbClr val="330066"/>
              </a:solidFill>
              <a:latin typeface="Arial"/>
            </a:endParaRPr>
          </a:p>
        </p:txBody>
      </p:sp>
      <p:sp>
        <p:nvSpPr>
          <p:cNvPr id="175" name="PlaceHolder 2"/>
          <p:cNvSpPr>
            <a:spLocks noGrp="1"/>
          </p:cNvSpPr>
          <p:nvPr>
            <p:ph/>
          </p:nvPr>
        </p:nvSpPr>
        <p:spPr>
          <a:xfrm>
            <a:off x="457200" y="1371600"/>
            <a:ext cx="8686800" cy="54864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will want to create a number of tests for various powders where the team members preparing for the event practice making observations and then get the questions and have to use their observations to answer the ques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ougher you can make your questions, the better the students will ge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not easy to think of observations to make on a single powder with only a few reagents for 20 minut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coring the Exam</a:t>
            </a:r>
            <a:endParaRPr b="1" lang="en-US" sz="3900" spc="-1" strike="noStrike">
              <a:solidFill>
                <a:srgbClr val="330066"/>
              </a:solidFill>
              <a:latin typeface="Arial"/>
            </a:endParaRPr>
          </a:p>
        </p:txBody>
      </p:sp>
      <p:sp>
        <p:nvSpPr>
          <p:cNvPr id="177" name="PlaceHolder 2"/>
          <p:cNvSpPr>
            <a:spLocks noGrp="1"/>
          </p:cNvSpPr>
          <p:nvPr>
            <p:ph/>
          </p:nvPr>
        </p:nvSpPr>
        <p:spPr>
          <a:xfrm>
            <a:off x="457200" y="1371600"/>
            <a:ext cx="8686800" cy="54864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best done as a group activity if possib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re are few enough exams (&lt;~12) two people can divide the exams between them.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the observations that support each question are looked at and ranked.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est observations are awarded 5 points, the next best 4</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Observations” that are really inferences can get a maximum of only 3.</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omplete observations receive less poi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sources</a:t>
            </a:r>
            <a:endParaRPr b="1" lang="en-US" sz="3900" spc="-1" strike="noStrike">
              <a:solidFill>
                <a:srgbClr val="330066"/>
              </a:solidFill>
              <a:latin typeface="Arial"/>
            </a:endParaRPr>
          </a:p>
        </p:txBody>
      </p:sp>
      <p:sp>
        <p:nvSpPr>
          <p:cNvPr id="179" name="PlaceHolder 2"/>
          <p:cNvSpPr>
            <a:spLocks noGrp="1"/>
          </p:cNvSpPr>
          <p:nvPr>
            <p:ph/>
          </p:nvPr>
        </p:nvSpPr>
        <p:spPr>
          <a:xfrm>
            <a:off x="457200" y="1371600"/>
            <a:ext cx="8229600" cy="54864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Observation Shee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tufts.edu/as/wright_center/products/sci_olympiad/cant_judge_a_powder/piqua_regional_2005_obser_sht.pdf</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Question Shee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tufts.edu/as/wright_center/products/sci_olympiad/cant_judge_a_powder/piqu_regionals_2005.pdf</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Key</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tufts.edu/as/wright_center/products/sci_olympiad/cant_judge_a_powder/piqua_regional_2005_answr_key.pd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fety</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must wear:</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osed sho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acks or skirts that come to the ankl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eeved shirt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 coat or lab apr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irect vent or unvented chemical splash proof goggles. No impact glasses or visorgogs are permitt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Students Can Bring</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drion paper</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 lens</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 volt conductivity tester (no testers will be allowed that run on 120 volts.)</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ral pipettes or eye droppers</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iners appropriate for testing conductivity and solubility (spot plates, beakers, etc. are fine)</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st tube holder and test tube rack if using test tubes</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atula</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irring ro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Students Can’t Bring</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erence Material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lculato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instruments of any kin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materials other than on previous slid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nking below those who have followed the rules</a:t>
            </a:r>
            <a:endParaRPr b="0" lang="en-US" sz="3000" spc="-1" strike="noStrike">
              <a:solidFill>
                <a:srgbClr val="000000"/>
              </a:solidFill>
              <a:latin typeface="Arial"/>
            </a:endParaRPr>
          </a:p>
        </p:txBody>
      </p:sp>
      <p:sp>
        <p:nvSpPr>
          <p:cNvPr id="157" name="Text Box 5"/>
          <p:cNvSpPr/>
          <p:nvPr/>
        </p:nvSpPr>
        <p:spPr>
          <a:xfrm>
            <a:off x="2286000" y="4038480"/>
            <a:ext cx="426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enal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Supervisors Will Provide</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619200" indent="-619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0 M NaOH</a:t>
            </a:r>
            <a:endParaRPr b="0" lang="en-US" sz="3000" spc="-1" strike="noStrike">
              <a:solidFill>
                <a:srgbClr val="000000"/>
              </a:solidFill>
              <a:latin typeface="Arial"/>
            </a:endParaRPr>
          </a:p>
          <a:p>
            <a:pPr marL="619200" indent="-619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0 M HCl</a:t>
            </a:r>
            <a:endParaRPr b="0" lang="en-US" sz="3000" spc="-1" strike="noStrike">
              <a:solidFill>
                <a:srgbClr val="000000"/>
              </a:solidFill>
              <a:latin typeface="Arial"/>
            </a:endParaRPr>
          </a:p>
          <a:p>
            <a:pPr marL="619200" indent="-619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illed (deionized) water</a:t>
            </a:r>
            <a:endParaRPr b="0" lang="en-US" sz="3000" spc="-1" strike="noStrike">
              <a:solidFill>
                <a:srgbClr val="000000"/>
              </a:solidFill>
              <a:latin typeface="Arial"/>
            </a:endParaRPr>
          </a:p>
          <a:p>
            <a:pPr marL="619200" indent="-619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different colored writing implements</a:t>
            </a:r>
            <a:endParaRPr b="0" lang="en-US" sz="3000" spc="-1" strike="noStrike">
              <a:solidFill>
                <a:srgbClr val="000000"/>
              </a:solidFill>
              <a:latin typeface="Arial"/>
            </a:endParaRPr>
          </a:p>
          <a:p>
            <a:pPr marL="619200" indent="-619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per Toweling</a:t>
            </a:r>
            <a:endParaRPr b="0" lang="en-US" sz="3000" spc="-1" strike="noStrike">
              <a:solidFill>
                <a:srgbClr val="000000"/>
              </a:solidFill>
              <a:latin typeface="Arial"/>
            </a:endParaRPr>
          </a:p>
          <a:p>
            <a:pPr marL="619200" indent="-619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bservation sheet</a:t>
            </a:r>
            <a:endParaRPr b="0" lang="en-US" sz="3000" spc="-1" strike="noStrike">
              <a:solidFill>
                <a:srgbClr val="000000"/>
              </a:solidFill>
              <a:latin typeface="Arial"/>
            </a:endParaRPr>
          </a:p>
          <a:p>
            <a:pPr marL="619200" indent="-619200">
              <a:spcBef>
                <a:spcPts val="5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questions/scoring sheet</a:t>
            </a: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22400"/>
            <a:ext cx="7848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Supervisors MAY Provide</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mometer</a:t>
            </a:r>
            <a:endParaRPr b="0" lang="en-US" sz="30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lance</a:t>
            </a:r>
            <a:endParaRPr b="0" lang="en-US" sz="30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t plate</a:t>
            </a:r>
            <a:endParaRPr b="0" lang="en-US" sz="3000" spc="-1" strike="noStrike">
              <a:solidFill>
                <a:srgbClr val="000000"/>
              </a:solidFill>
              <a:latin typeface="Arial"/>
            </a:endParaRPr>
          </a:p>
          <a:p>
            <a:pPr marL="571680" indent="-5716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thing else the supervisor decides to distribute. If the supervisor feels instructions are needed in order to use something provided, the instructions will be availabl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in Focus</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a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istinction between an observation and an infere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to prepare studen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oring the Exa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servations</a:t>
            </a:r>
            <a:endParaRPr b="1" lang="en-US" sz="3900" spc="-1" strike="noStrike">
              <a:solidFill>
                <a:srgbClr val="330066"/>
              </a:solidFill>
              <a:latin typeface="Arial"/>
            </a:endParaRPr>
          </a:p>
        </p:txBody>
      </p:sp>
      <p:sp>
        <p:nvSpPr>
          <p:cNvPr id="165" name="PlaceHolder 2"/>
          <p:cNvSpPr>
            <a:spLocks noGrp="1"/>
          </p:cNvSpPr>
          <p:nvPr>
            <p:ph/>
          </p:nvPr>
        </p:nvSpPr>
        <p:spPr>
          <a:xfrm>
            <a:off x="456840" y="1523520"/>
            <a:ext cx="8534520" cy="533412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hasize to students that the purpose of this lab is NOT to identify the powder. (That is the Science Crime Buster event-not this on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urpose is to characterize the powde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event hits all of the Middle School National Physical Science Standard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fore it is an excellent event to actually use in the classroom to teach observation and the difference between observation and infere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servations</a:t>
            </a:r>
            <a:endParaRPr b="1" lang="en-US" sz="3900" spc="-1" strike="noStrike">
              <a:solidFill>
                <a:srgbClr val="330066"/>
              </a:solidFill>
              <a:latin typeface="Arial"/>
            </a:endParaRPr>
          </a:p>
        </p:txBody>
      </p:sp>
      <p:sp>
        <p:nvSpPr>
          <p:cNvPr id="167" name="PlaceHolder 2"/>
          <p:cNvSpPr>
            <a:spLocks noGrp="1"/>
          </p:cNvSpPr>
          <p:nvPr>
            <p:ph/>
          </p:nvPr>
        </p:nvSpPr>
        <p:spPr>
          <a:xfrm>
            <a:off x="457200" y="1447560"/>
            <a:ext cx="8686800" cy="5257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need to learn to write down observations, not inferenc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need to be as specific as possibl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le both flour &amp; cornstarch might at first glance be described as “white powders”, flour is generally more of an ivory white or creamy white, whereas cornstarch is more bright white</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should be as quantitative as possible</a:t>
            </a:r>
            <a:endParaRPr b="0" lang="en-US" sz="30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udents should state how many grams of the substance were attempted to dissolve in how many ml of water and from what temperature to what temperature the water changed during how long a tim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21:24:06Z</dcterms:created>
  <dc:creator>LWoz</dc:creator>
  <dc:description/>
  <dc:language>en-US</dc:language>
  <cp:lastModifiedBy>Mark A. Van Hecke</cp:lastModifiedBy>
  <dcterms:modified xsi:type="dcterms:W3CDTF">2009-07-09T01:17:43Z</dcterms:modified>
  <cp:revision>6</cp:revision>
  <dc:subject/>
  <dc:title>Can’t Judge a Powder (B)</dc:title>
</cp:coreProperties>
</file>